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44AF-BA2D-4755-8FD2-636868BF2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F133-E7F5-4900-9B44-3F81EF74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CED2-34ED-4DB9-8FC2-26BC4586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3196-51A5-44CC-A9FE-4A0702C18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D95CF-3256-4FF4-82A4-41C0578C3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C122F-A464-458A-8EC3-39989221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13837-72B0-4C5F-BA08-2F5D49AD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11D8D-79DB-4D3C-ADD4-D7D2BD3D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FB687-477B-48A5-B5CC-B49D241E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A927E-A0A1-4622-8C91-1A2876A7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D288C-D6B4-43EF-B52A-3D512B17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AD18-0F92-4113-9AE7-18C17625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ECC5F-14B0-4A0A-B545-4C99917F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135EA-87EC-4380-941B-7CB5CE27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828B9-8CA0-4AA0-8AA1-325A0D03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63C3E-2AA8-40C4-9F8C-DEBF7CAFF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3E728-6A23-46EA-93FF-164D87045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951E-3231-407C-A2EB-144F4CBB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47ED-4682-4BD7-9A28-F182D685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90DD-DF82-464B-BFCC-F20403AB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6D19-2CBB-4ECA-AFF4-52DC84D5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28AF-E9E2-4BDD-BFD6-388F7FE9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FDD0-72F3-4B26-9715-D5B4158F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4059-E47A-494B-BF5F-2A95C0F2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FC9F-A951-4989-80A9-B5226B020BD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1EEF-873C-414B-9AD7-BA14A48549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A5FD-3037-4E47-87A1-16097808067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CDF8-15A3-4E9D-B9AB-2B82B083D24E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СНОВНЫЕ ПОНЯТИЯ И ЗАКОНЫ ХИМ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iрнгпн"/>
          <p:cNvPicPr/>
          <p:nvPr/>
        </p:nvPicPr>
        <p:blipFill>
          <a:blip r:embed="rId2"/>
          <a:stretch/>
        </p:blipFill>
        <p:spPr>
          <a:xfrm>
            <a:off x="2971800" y="2743200"/>
            <a:ext cx="30402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2F4DF-FB72-47DC-A994-B58D3AE190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томно - молекулярное учени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     Все вещества состоят из молекул. Молекула - наименьшая частица вещества, обладающая его химическими свойств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     Молекулы состоят из атомов. Атом - наименьшая частица химического элемента, сохраняющая все его химические свойства. Различным элементам соответствуют различные ато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      Молекулы и атомы находятся в непрерывном движении; между ними существуют силы притяжения и отталкив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71EB-F4C7-4428-B24F-80FEA3F57E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ждународная единица атомных масс равна 1/12 массы изотопа  12C - основного изотопа природного углеро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 а.е.м = 1/12 • m (12C) = 1,66057 • 10-24 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67DD-2D9A-4320-AFCE-12BF17B671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носительная молекулярная масса (Mr) - безразмерная величина, показывающая, во сколько раз масса молекулы данного вещества больше 1/12 массы атома углерода 12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Mг = mг / (1/12 mа(12C)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mr - масса молекулы данного вещест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mа(12C) - масса атома углерода 12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Mг = S Aг(э). Относительная молекулярная масса вещества равна  сумме относительных атомных масс всех элементов с учетом индекс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5D45-4DCF-4C0B-AC13-9D53BDB221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исло Авогадро ди Кваренья (NA). Количество частиц в 1 моль любого вещества одно и то же и равно 6,02 • 1023. (Постоянная Авогадро имеет размерность - моль-1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0CEA-3A24-45DE-B8F4-8491195E83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кон сохранения массы вещест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М.В.Ломоносов, 1748 г.; А.Лавуазье, 1789 г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асса всех веществ, вступивших в химическую реакцию, равна массе всех продуктов реак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E763-7A71-4FA6-931F-3A664F4A88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оставление химических уравнений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Включает три этап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     Запись формул веществ, вступивших в реакцию (слева) и продуктов реакции (справа), соединив их по смыслу знаками "+" и "®"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gO ® Hg + O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     Подбор коэффициентов для каждого вещества так, чтобы количество атомов каждого элемента в левой и правой части уравнения было одинаково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HgO ® 2Hg + O23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верка числа атомов каждого элемента в левой и правой частях уравн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E03C-06B3-4CF7-AA7A-6EC84F3E58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кон кратных отношен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Д.Дальтон, 1803 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сли два химических элемента дают несколько соединений, то весовые доли одного и того же элемента в этих соединениях, приходящиеся на одну и ту же весовую долю второго элемента, относятся между собой как небольшие целые чис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6A95-3799-4107-9597-750F1603AF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кон объемных отношен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Гей-Люссак, 1808 г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"Объемы газов, вступающих в химические реакции, и  объемы газов, образующихся в результате реакции, относятся между собой как небольшие целые числ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EEAF-E1AE-4EAD-B71A-39F4379B61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кон Авогадро ди Кварень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811 г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равных объемах различных газов при одинаковых условиях (температура, давление и т.д.) содержится одинаковое число молеку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кон справедлив только для газообразных вещест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4" descr="i"/>
          <p:cNvPicPr/>
          <p:nvPr/>
        </p:nvPicPr>
        <p:blipFill>
          <a:blip r:embed="rId2"/>
          <a:stretch/>
        </p:blipFill>
        <p:spPr>
          <a:xfrm>
            <a:off x="5834160" y="2209680"/>
            <a:ext cx="2577960" cy="358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5974-FE63-495D-BA60-3792222E52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Уравнение Клайперона-Менделее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записать объединенный газовый закон для любой массы любого газа, то получается уравнение Клайперона-Менделеев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pV= (m / M) 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1EC4-6F23-4416-BB0F-7CE855FB49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Хим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наука о веществах, закономерностях их превращений (физических и химических свойствах) и применении. В настоящее время известно более 100 тыс. неорганических и более 4 млн. органических соедин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36EA-E943-4A4C-8117-F7AC740C93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ланетарная модель строения атом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Э.Резерфорд, 1911 г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     Атомы химических элементов имеют сложное внутреннее строени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     В центре атома находится положительно заряженное ядро, занимающее ничтожную часть пространства внутри ато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8226-80E9-4062-9ED6-A4E9A8EA6F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   Весь положительный заряд и почти вся масса атома сосредоточена в ядре атома(масса электрона равна 1/1823 а.е.м.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   Вокруг ядра по замкнутым орбиталям движутся электроны. Их число равно заряду ядра. Поэтому атом в целом - электронейтрале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05A2-2B44-4ABB-B08A-E25BFA780B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Ядро ато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Ядро атома состоит из протонов и нейтронов (общее название - нуклоны). Число протонов в ядре атома элемента строго определено - равно порядковому номеру элемента в периодической системе - Z. Число нейтронов в ядре атомов одного и того же элемента может быть различным - A - Z (где А - относительная атомная масса элемента; Z - порядковый номер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241D-527F-4A38-A360-937C61474E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Химический элемент - это вид атомов, характеризующийся определенными зарядами ядер и строением электронных оболочек. В настоящее время известно 110 элементов: 89 из них найдены в природе (на Земле), остальные получены искусственным путем. Атомы существуют в свободном состоянии, в соединениях с атомами того же или других элементов, образуя молекул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4D01-38B4-428A-A81B-2F7E3A4C3A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томное ядро - центральная часть атома, состоящая из Z протонов и N нейтронов, в которой сосредоточена основная масса атом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FFA0-3BE1-4D01-8912-B1CEF02EB6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ряд ядра - положительный, по величине равен количеству протонов в ядре или электронов в нейтральном атоме и совпадает с порядковым номером элемента в периодической системе. Сумма протонов и нейтронов атомного ядра называется массовым числом A = Z + 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F3B4-5604-484C-B8AC-71CC0E31A8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отопы - химические элементы с одинаковыми зарядами ядер, но различными массовыми числами за счет разного числа нейтронов в ядр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6ACB-AAF3-4E77-9815-7D87C7CFF6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Химическая формула - это условная запись состава вещества с помощью химических знаков (предложены в 1814 г. Й. Берцелиусом) и индексов (индекс - цифра, стоящая справа внизу от символа. Обозначает число атомов в молекуле). Химическая формула показывает,  атомы каких элементов и в каком отношении соединены между собой в молеку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B97C-624E-4F7B-A432-E88E136C9A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ллотропия - явление образования химическим элементом нескольких простых веществ, различающихся по строению и свойствам. Простые вещества- молекулы, состоят из атомов одного и того же элемен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E73E-7CDE-4E18-B5C7-7E9DFF1C7C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Химические явления: одни вещества превращаются в другие, отличающиеся от исходных составом и свойствами, при этом состав ядер атомов не изменяе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изические явления: меняется физическое состояние веществ (парообразование, плавление, электропроводность, выделение тепла и света, ковкость и др.) или образуются новые вещества с изменением состава ядер атом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3BFC-C7F8-46E9-A92E-41095DE0FA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2T07:40:39Z</dcterms:created>
  <dc:creator>User</dc:creator>
  <dc:description/>
  <dc:language>en-US</dc:language>
  <cp:lastModifiedBy>Student</cp:lastModifiedBy>
  <dcterms:modified xsi:type="dcterms:W3CDTF">2013-05-02T10:36:3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